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816-F306-41DD-8DA8-F268D283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697-4ABC-4521-8D09-3004AEE6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243-2EF8-4C34-A883-9BF850C7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5E5-B0EB-4D54-99AC-A3C9F39F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15EA-845D-4D27-9A06-7A0174B2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61D-F78C-453C-AB39-8F14D121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0C89-EAA5-42BB-B02F-0D83C2F1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4C2-9B09-46AF-B032-16C3205A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E14-0EE6-450F-B272-CBC7E8DC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6E9-1F7B-493F-8E21-D38D81E9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64C-0CD2-49E0-BFE8-9289A70E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D5D-7D2E-4159-B548-6F234730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F136-2530-4070-AA91-358B1ACC45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Century Gothic"/>
              </a:rPr>
              <a:t>Papa holt Wass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öwe%20trinkt%20Milch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37465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Century Gothic"/>
              </a:rPr>
              <a:t>Nilpferd isst Ke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Nilpferd%20isst%20Keks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25797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Century Gothic"/>
              </a:rPr>
              <a:t>Giraffe trinkt Wass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Giraffe%20trinkt%20Wasser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369252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Century Gothic"/>
              </a:rPr>
              <a:t>Zebra isst Ke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Zebra%20isst%20Keks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1962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apa%20holt%20Wasser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8546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Century Gothic"/>
              </a:rPr>
              <a:t>Mama holt Mil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ma%20holt%20Milch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26088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Century Gothic"/>
              </a:rPr>
              <a:t>Elefant trinkt Wass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Elefant%20trinkt%20Wasser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34113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Century Gothic"/>
              </a:rPr>
              <a:t>Papagei isst Ke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apagei%20isst%20Keks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2576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Century Gothic"/>
              </a:rPr>
              <a:t>Löwe trinkt Mil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m. Walendzik</cp:lastModifiedBy>
  <dcterms:modified xsi:type="dcterms:W3CDTF">2001-03-17T21:55:36Z</dcterms:modified>
  <cp:revision>5</cp:revision>
  <dc:subject/>
  <dc:title>PowerPoint Presentation</dc:title>
</cp:coreProperties>
</file>